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B8D-7169-4A6D-B5B8-BD88D684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A889-3B5E-40F6-8E1D-E885AE73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B6F-639F-4702-AE80-8B9948A0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A75D-9428-449B-8802-0484BB89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543-7261-4430-9D96-3250C7D2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977-8D8D-4562-9D62-9832A61A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B564-F517-457D-9D9A-FA499B11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0FA-D032-4876-8F9B-95869181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042-D5EA-4D63-810E-98996290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F2F-8209-413B-A185-A4555C57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85E-B2D3-4D29-9274-02013944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7ED-8987-4CF9-A4CD-E1F10145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74AB-2B20-4E56-B984-F2FED8F36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ets and Dwarf Pla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yan L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nathan Ole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ler Na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is brought to you by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 Ruu Corpation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-228600" y="228600"/>
          <a:ext cx="952488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228600"/>
                    <a:ext cx="95248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-152280"/>
          <a:ext cx="8686800" cy="727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152280"/>
                    <a:ext cx="8686800" cy="72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500040"/>
          <a:ext cx="9296280" cy="635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0040"/>
                    <a:ext cx="92962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lanet Fac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lanet - A spherical object in space that has its own atmosphere and orbits a much bigger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arther a planet is away from what it orbits, the longer the orbital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y Planet that has less than 10 moons, is considered a small planet, or a dwarf pla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so any planet with a diameter that is bigger than 2.0 is considered a big pla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r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farther away a planet is from the Sun, the longer the Orbital Period 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 You for watc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5:44:30Z</dcterms:created>
  <dc:creator>mchamorro</dc:creator>
  <dc:description/>
  <dc:language>en-US</dc:language>
  <cp:lastModifiedBy>Amphitheater Public Schools</cp:lastModifiedBy>
  <dcterms:modified xsi:type="dcterms:W3CDTF">2011-02-15T15:59:37Z</dcterms:modified>
  <cp:revision>3</cp:revision>
  <dc:subject/>
  <dc:title>Planets and Dwarf Planets</dc:title>
</cp:coreProperties>
</file>